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AC03-BF9C-409E-9F49-AC552FE2E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5159-7744-47C7-A321-68F0DE3FB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E659-5B66-4CAD-B470-B2F21728A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AC37-0DAC-498E-B2CD-A09DAC94B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ED98-4AEC-42B8-8F74-2DDBCE851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8B11-0BC0-4918-BD40-7F4203D18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CA11-FBF7-41D1-8825-FE88A70A8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7E1F-3906-4D7A-A2AB-35A1D6525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B1DE-A215-4FE8-9A62-008DB8920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24FC-92C9-441B-A726-74D02825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3FE0-6377-46C5-829C-33EEAFA1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1198-C578-4D0D-B034-F09321F01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354D7-2E6C-4E9C-B193-DA71FD0F9B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bensguide.gpo.gov/3-5/state/index.html" TargetMode="External"/><Relationship Id="rId3" Type="http://schemas.openxmlformats.org/officeDocument/2006/relationships/image" Target="../media/image4.png"/><Relationship Id="rId4" Type="http://schemas.openxmlformats.org/officeDocument/2006/relationships/hyperlink" Target="http://bensguide.gpo.gov/3-5/state/index.html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postcardsfrom.com/t1/991129.html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9c98f"/>
            </a:gs>
            <a:gs pos="100000">
              <a:srgbClr val="39393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09480" y="457200"/>
            <a:ext cx="8229600" cy="586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cc"/>
                    </a:gs>
                    <a:gs pos="100000">
                      <a:srgbClr val="393939"/>
                    </a:gs>
                  </a:gsLst>
                  <a:lin ang="5400000"/>
                </a:gradFill>
                <a:latin typeface="Arial Black"/>
              </a:rPr>
              <a:t>Pennsylvan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cc"/>
                  </a:gs>
                  <a:gs pos="100000">
                    <a:srgbClr val="393939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219320"/>
            <a:ext cx="40384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k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/20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eri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 #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91000" y="861840"/>
            <a:ext cx="2746440" cy="1498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248520" y="2735280"/>
            <a:ext cx="14475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p 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600200" y="685800"/>
            <a:ext cx="228600" cy="228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057400" y="533520"/>
            <a:ext cx="1752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 States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Pennsylvania,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10/7/10 www.50states.com/Pennsylvani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5f5f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name: Pennsylv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capitol: Harrisbu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: 12,281,05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er the union: Dec, 12 178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to: virtue, liberty, and indepen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ckname: keystone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rd: ruffed gr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ng: Pennsylv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ing behind name: named after William Pen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" dur="2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" dur="2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2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" dur="2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" dur="2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20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" dur="20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Pennsylvania: Map and State Flag"/>
          <p:cNvPicPr/>
          <p:nvPr/>
        </p:nvPicPr>
        <p:blipFill>
          <a:blip r:embed="rId1"/>
          <a:srcRect l="0" t="50974" r="0" b="0"/>
          <a:stretch/>
        </p:blipFill>
        <p:spPr>
          <a:xfrm>
            <a:off x="0" y="4989600"/>
            <a:ext cx="6095880" cy="18684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14400" y="1287360"/>
            <a:ext cx="990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666880"/>
            <a:ext cx="48006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’s guide to U S government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quick facts: Pennsylvan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 September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bensguide.gpo.gov/3-5/state/index.html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© 1999 WriteLine. Pennsylvania flag"/>
          <p:cNvPicPr/>
          <p:nvPr/>
        </p:nvPicPr>
        <p:blipFill>
          <a:blip r:embed="rId3"/>
          <a:stretch/>
        </p:blipFill>
        <p:spPr>
          <a:xfrm>
            <a:off x="0" y="0"/>
            <a:ext cx="9144000" cy="28195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095880" y="5118120"/>
            <a:ext cx="3048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’s guide to U S government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quick facts: Pennsylvan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 September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bensguide.gpo.gov/3-5/state/ind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90720" y="4419720"/>
            <a:ext cx="37335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p of Pennsylv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38680" y="32004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nsylvania's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40" dur="1230" fill="hold"/>
                                        <p:tgtEl>
                                          <p:spTgt spid="51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41" dur="123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42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43" dur="123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44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39c98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All images Copyright © 1997 - 2000 WriteLine. All Rights Reserved. Harrisburg PA Capitol"/>
          <p:cNvPicPr/>
          <p:nvPr/>
        </p:nvPicPr>
        <p:blipFill>
          <a:blip r:embed="rId1"/>
          <a:stretch/>
        </p:blipFill>
        <p:spPr>
          <a:xfrm>
            <a:off x="1143000" y="1447920"/>
            <a:ext cx="6477120" cy="34002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9480" y="228600"/>
            <a:ext cx="7696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cards from Pennsylvania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, Harrisburg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/23/2010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postcardsfrom.com/t1/991129.html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28800" y="556272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eautiful state capitol of Pennsylvan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13:11:58Z</dcterms:created>
  <dc:creator>install</dc:creator>
  <dc:description/>
  <dc:language>en-US</dc:language>
  <cp:lastModifiedBy>install</cp:lastModifiedBy>
  <dcterms:modified xsi:type="dcterms:W3CDTF">2010-10-14T13:19:53Z</dcterms:modified>
  <cp:revision>13</cp:revision>
  <dc:subject/>
  <dc:title>Slide 1</dc:title>
</cp:coreProperties>
</file>